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F783-F5E6-422C-BABB-81F1AAED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AB6D-DFB3-4D6A-9699-65EE6CFD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87DA-1279-415A-B8B3-2E126532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E4EB-EF5B-456E-939E-612A9A51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D8D4-2F78-4EBD-870E-A8DA9D71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2821-43B0-432C-B6B7-EB38DBE8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9DCB-8001-41B6-B751-1CAEFF2C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16FB-8FEE-460E-8FEE-9439EDEE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F24E-1E8C-4113-BF24-DCA42C06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10152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06BA-C7BA-455F-8801-3F37782B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D365-E331-4232-8403-D09A3E40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15C-E950-4D21-BA2A-8C6D191D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7661-EB1D-4BFE-9E44-431FBB4D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C469-D239-49CB-A7BB-42FE026F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4B97-9FD5-4EE3-A1C7-5A98EDAC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F8F6-E4FF-4ADE-A343-D97DDD4B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30BF-467B-4D23-B030-7AA8F51D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38C-D457-4254-9E84-A4661556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249-6ECA-404D-AF7C-55CC317B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9CA7-F76B-4935-8F6C-B2236F44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10152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923-F877-4F27-9368-9C1648EA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D3C-C7B2-4F45-9AA0-457D9DB8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496-B952-40F2-A124-51C096D5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09E-DC66-414E-8DED-F7B45EE9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82DF-6659-4E15-BE87-4FC9C272D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1FC6-3905-4ABE-A46D-BF9C6A368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YhCn0jf46U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67080" y="177480"/>
            <a:ext cx="4648320" cy="18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&amp;I264: Visual Lite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8840" y="220968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9,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s of tex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76160" y="1447560"/>
            <a:ext cx="7467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 and visual media may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ti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visual messages and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th still and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sual Lite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sual literac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s the ability to interpret, use, appreciate, and create images and video using both conventional and 21st century media in ways that advance thinking, decision making, communication, an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ffectiv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ressions of enjoyment, personal interpretation, discusses reasons for liking or disliking a particular image, discuss characters and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ositional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s such as line, angle, color, perspective, symbols, layout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ritical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ociocritical understandings of the texts, comments about why the artist/illustrator chose what to include, perspective. How the image positions the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61434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text set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" y="15998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me: Self Perception  Concept: Society Can Shape our Self-P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n Rockwell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irl in the Mirr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ain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een Magaz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hen Schwartz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pular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y Lovell and David Catrow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nd Tall Molly Lou Me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M. Kay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The Ordinary Prin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bert N. Munsch and Michael Martchenko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aper Bag Prin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 Hoffma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ess G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ve Evolu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tube video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iYhCn0jf46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text and determine what Concepts About Print or targets do you need to te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sual Literac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targets could you te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nstructional strategies could you use for teaching the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affective, compositional and 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assess your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ut some of the activities using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ther texts could you pair this wi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you use it in your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Integrated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Minilesson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day’s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-lecture- Visual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Strategies (Viewing and Visually Represen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r’s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Elements of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013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tical Lite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8080" y="1294920"/>
            <a:ext cx="74678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itical literacy is the ability to read texts in an active, reflective manner in order to better understand power, inequality, and injustice in human relationshi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udents’ cultural knowledge and multimedia practices should be used (Comber, 2001, Vasquez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n we read we bring with us our past experiences  and understandings about how the world works. (Vasquez, 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tical Lite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480" y="1371240"/>
            <a:ext cx="79250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 ability to read other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. the possibility of understanding our own and others’ experiences from that many more vantage point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Valuing, exploring, and appreciating multiple perspectives  in the classroom.”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(Johnston, 199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literacy is social: disrupting the status quo, questioning, studying taken-for-granted assumptions, acting for change. It is reading the world and taking action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an Sluys,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we teac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exts- incorporate literature with “real-life” 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characters’ persp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nnections (Text to Self, Text to World, Text to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hildren’s literature to focus on soci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children to tak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a variety of texts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modality and Multilitera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04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need to navigate and interpret the growing variety of texts which require using different literac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modal Texts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ways of communicating id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odc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stan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literacies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teracy skills needed to interpret multimodal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language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one sign system used to describe or define another sign system (color, font, lines, texture, placement in space, symbolic imag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es CCSS s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urn and Tal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students need to know and do? What do we need to assess? Make a 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es it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do people who are visually literate know and what are they able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elements of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emotional and psychological effects of vis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symbolic, metaphorical and representational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design messages using multiple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5:41:02Z</dcterms:created>
  <dc:creator>College of Education</dc:creator>
  <dc:description/>
  <cp:keywords/>
  <dc:language>en-US</dc:language>
  <cp:lastModifiedBy>dana karraker</cp:lastModifiedBy>
  <dcterms:modified xsi:type="dcterms:W3CDTF">2013-03-19T01:25:58Z</dcterms:modified>
  <cp:revision>1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16959</vt:lpwstr>
  </property>
</Properties>
</file>